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C455-4282-4B54-8989-8CBD2BD61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7967-14B8-49BF-9F5C-BDC5EF7F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6AD7-2946-420E-9A18-A5A2EFDA9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CF87-9F90-4DAA-AF5F-287D449A6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3269-D648-4C8B-BCD7-298F2A71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AF81-FD59-4236-8B1E-0BBE8051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6924-A5D1-486F-A6A3-47E1670F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52CD-1970-45D3-BA78-E540A2E0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3712-6980-4C59-B614-FA6FDF8E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86E7-6CD1-47D4-8C36-937A6046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933A-1925-4ECD-BA53-7D995D2D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E577-A3B1-4CC0-A0A2-2529EA51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C00E-1440-4A76-A36D-7DC58C680234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5/11/14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3720" y="145800"/>
            <a:ext cx="72262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Jerry - VF Acceptance Test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279360" y="4660920"/>
            <a:ext cx="871236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8252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2400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344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4636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6692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8784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1020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3076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4988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7224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9280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1372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3752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97400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49456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052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08108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60164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12400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64636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16692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68604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6052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29600" y="1662120"/>
            <a:ext cx="503280" cy="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32680" y="4322880"/>
            <a:ext cx="1628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35920" y="1079640"/>
            <a:ext cx="1628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F f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27840" y="1590840"/>
            <a:ext cx="13032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70200" y="1662120"/>
            <a:ext cx="4502160" cy="144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5080" y="1676520"/>
            <a:ext cx="27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 tests with all OpCo’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663560"/>
            <a:ext cx="2085840" cy="1800"/>
          </a:xfrm>
          <a:prstGeom prst="line">
            <a:avLst/>
          </a:prstGeom>
          <a:ln w="38160">
            <a:solidFill>
              <a:srgbClr val="8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70920" y="1590840"/>
            <a:ext cx="13176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53160" y="1770120"/>
            <a:ext cx="11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duction start in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11360" y="1316160"/>
            <a:ext cx="195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CF / TA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54200" y="1590840"/>
            <a:ext cx="13032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360" y="1305000"/>
            <a:ext cx="28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-tests with 2-3 dedicated OpCo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4732200" y="980640"/>
            <a:ext cx="208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46640" y="980640"/>
            <a:ext cx="64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5776560" y="981000"/>
            <a:ext cx="34920" cy="5616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6296040" y="980640"/>
            <a:ext cx="936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7376760" y="980640"/>
            <a:ext cx="2556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189320" y="981000"/>
            <a:ext cx="22320" cy="5616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797868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8480" y="2678040"/>
            <a:ext cx="158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637000" y="2673000"/>
            <a:ext cx="4743360" cy="146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91520" y="2665440"/>
            <a:ext cx="574560" cy="165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55720" y="2833560"/>
            <a:ext cx="19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e-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40080" y="2871720"/>
            <a:ext cx="390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ptance 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48440" y="2798640"/>
            <a:ext cx="11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nal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043840" y="2162160"/>
            <a:ext cx="1440" cy="262908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38920" y="2295360"/>
            <a:ext cx="136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~1 w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40080" y="2311560"/>
            <a:ext cx="390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9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8800" y="2311560"/>
            <a:ext cx="19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06760" y="4838760"/>
            <a:ext cx="187200" cy="23472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41120" y="487692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59080" y="5289480"/>
            <a:ext cx="187200" cy="2350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56000" y="534024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848844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823080" y="980640"/>
            <a:ext cx="936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19640" y="4838760"/>
            <a:ext cx="187560" cy="23472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46080" y="485784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40760" y="4838760"/>
            <a:ext cx="187200" cy="23472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75480" y="4863960"/>
            <a:ext cx="11512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final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41480" y="5813280"/>
            <a:ext cx="216000" cy="2034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31760" y="4838760"/>
            <a:ext cx="187560" cy="23472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7080" y="4869000"/>
            <a:ext cx="10843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Pr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554360" y="5813280"/>
            <a:ext cx="216000" cy="2034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646320" y="5813280"/>
            <a:ext cx="215640" cy="2034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00520" y="581040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77920" y="581508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94640" y="580068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20000" y="4508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43640" y="4508640"/>
            <a:ext cx="158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23280" y="4484520"/>
            <a:ext cx="1569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099280" y="4484520"/>
            <a:ext cx="1573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2280" y="4481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´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71560" y="448164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95560" y="4481640"/>
            <a:ext cx="1584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76640" y="4481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38600" y="4481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5920" y="448164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10120" y="4484520"/>
            <a:ext cx="1587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05400" y="4484520"/>
            <a:ext cx="1587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46600" y="449280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22600" y="449280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32360" y="449280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6280" y="5267160"/>
            <a:ext cx="187200" cy="2350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04760" y="533088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1+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95280" y="5803920"/>
            <a:ext cx="216000" cy="20304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6200" y="580536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Pr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394200" y="4143960"/>
            <a:ext cx="921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3213000"/>
            <a:ext cx="358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21920" y="3157560"/>
            <a:ext cx="244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537400" y="4479840"/>
            <a:ext cx="1573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767800" y="2157480"/>
            <a:ext cx="1440" cy="2628720"/>
          </a:xfrm>
          <a:prstGeom prst="line">
            <a:avLst/>
          </a:prstGeom>
          <a:ln w="2844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234280" y="2550960"/>
            <a:ext cx="11732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li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x Boch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Monika Reiss</cp:lastModifiedBy>
  <dcterms:modified xsi:type="dcterms:W3CDTF">2006-01-23T11:35:13Z</dcterms:modified>
  <cp:revision>56</cp:revision>
  <dc:subject/>
  <dc:title>PowerPoint 簡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4040715</vt:r8>
  </property>
  <property fmtid="{D5CDD505-2E9C-101B-9397-08002B2CF9AE}" pid="3" name="_AuthorEmail">
    <vt:lpwstr>Monika.Reiss@BenQ.com</vt:lpwstr>
  </property>
  <property fmtid="{D5CDD505-2E9C-101B-9397-08002B2CF9AE}" pid="4" name="_AuthorEmailDisplayName">
    <vt:lpwstr>Monika Reiss</vt:lpwstr>
  </property>
  <property fmtid="{D5CDD505-2E9C-101B-9397-08002B2CF9AE}" pid="5" name="_EmailSubject">
    <vt:lpwstr>Arjen's address for VF approval process</vt:lpwstr>
  </property>
</Properties>
</file>